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A57-4759-4880-8220-D97C3269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1A1-E06F-484F-ABF0-6ADED558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4E6-4B6B-4A1E-AFB1-257CE582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68F-6DA9-40BA-BFEA-6B4D403B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811-49A7-4E41-953D-E45C25C8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F965-052D-4AEC-B786-EF79DB8E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51FD-6FD7-4C91-BC3F-B2498F04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4EDE-CA49-4BCC-8CEF-BE4C62A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2ADC-4AF9-4BA8-9BBA-00BD93B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B926-0D09-4D1C-BC3C-5CB11705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DC9C-BA89-430A-9BFE-D849710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765-505D-4806-8A9D-1A291747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CC67-2AAC-4FCE-923D-A5C3283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B29-D449-4115-BF30-22070F2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77C-4565-4896-99A1-38B764A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9503-1ABD-462A-A86D-FA267495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6A5-046A-462C-9F4C-E4AD2188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8BA-C762-4ADE-B27A-5BC5A98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6ED-B4B7-4D36-A099-C52C3C5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793-D002-4F82-946C-F461F51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FB8-74AC-47D1-AEB4-C369118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DB6-AB77-412E-91DA-2A3E739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E1C-66DA-4228-8CB1-AA33C17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37E-4B42-44B8-947E-C8AAAE97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FD0-6A16-41FF-917A-0FB228F50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0A2-E4E6-4E41-9809-87A9C18C65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 llamo __________            Clase 8IM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La fecha es el 16 de septiembre del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Propósito #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, ¿Prefieres estudiar español o matemá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r el contrato y la hoja de cont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ed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lar ingles en la clase de españ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e hor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erm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e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chas cl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deport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ugar deportes en la clase de educación fís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er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ds. tarea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8098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, yo no puedo hablar ingles en la clase de españ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70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sotros dormimos a las…..de la no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7242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tengo much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0552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Yo juego…… </a:t>
            </a:r>
            <a:r>
              <a:rPr b="0" i="1" lang="es-ES_tradnl" sz="2400" spc="-1" strike="noStrike">
                <a:solidFill>
                  <a:srgbClr val="008000"/>
                </a:solidFill>
                <a:latin typeface="Times New Roman"/>
              </a:rPr>
              <a:t>(No juego depor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562720"/>
            <a:ext cx="693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Si vamos a jugar deportes en la clase de educación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324480"/>
            <a:ext cx="693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No queremos tareas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pas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143000"/>
          <a:ext cx="8763120" cy="4902120"/>
        </p:xfrm>
        <a:graphic>
          <a:graphicData uri="http://schemas.openxmlformats.org/drawingml/2006/table">
            <a:tbl>
              <a:tblPr/>
              <a:tblGrid>
                <a:gridCol w="2971800"/>
                <a:gridCol w="1989000"/>
                <a:gridCol w="1611360"/>
                <a:gridCol w="21909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uestion   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Q      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er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09480" y="11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Verb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Pro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219320"/>
            <a:ext cx="14479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In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l ver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Reg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362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u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rm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17524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362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048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657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191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876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611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440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Q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2438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002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8308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*Crazy verb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nd the INFINI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2. Remove the INFINITIVE verb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3. Replace with the appropriate NEW en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Yo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ú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Él ella Ud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Vosotros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llos Ellas Uds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19680" y="33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6960" y="4662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8000" y="510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99520" y="54864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33720" y="59436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16440" y="6338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paso de los verbos REGUL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143000"/>
          <a:ext cx="9067680" cy="5043600"/>
        </p:xfrm>
        <a:graphic>
          <a:graphicData uri="http://schemas.openxmlformats.org/drawingml/2006/table">
            <a:tbl>
              <a:tblPr/>
              <a:tblGrid>
                <a:gridCol w="3354480"/>
                <a:gridCol w="5713200"/>
              </a:tblGrid>
              <a:tr h="75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                                      </a:t>
                      </a: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ablar       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Vender      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ub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350532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6800" y="19051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41008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15200" y="1142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0480" y="275760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62000" y="33670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8040" y="42814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4680" y="4876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0" i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0840" y="56386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bl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9360" y="19051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240" y="25909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88080" y="33670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90360" y="4114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0" y="489096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5080" y="56530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end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0760" y="19191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7080" y="260496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46680" y="33670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02600" y="41292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76560" y="49672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71080" y="565308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3366cc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3366cc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verbs in Spanish are called stem-changing verbs. When conjugated, these verbs don’t only change the ending, they also change the STEM or roo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P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pronou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sotr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3276720"/>
          <a:ext cx="6324480" cy="3622680"/>
        </p:xfrm>
        <a:graphic>
          <a:graphicData uri="http://schemas.openxmlformats.org/drawingml/2006/table">
            <a:tbl>
              <a:tblPr/>
              <a:tblGrid>
                <a:gridCol w="3276720"/>
                <a:gridCol w="30477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Emp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2800" spc="-1" strike="noStrike" u="sng">
                          <a:solidFill>
                            <a:srgbClr val="3366cc"/>
                          </a:solidFill>
                          <a:uFillTx/>
                          <a:latin typeface="Times New Roman"/>
                        </a:rPr>
                        <a:t>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95288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943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i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0" i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6415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3366cc"/>
                </a:solidFill>
                <a:latin typeface="Arial"/>
              </a:rPr>
              <a:t>z</a:t>
            </a:r>
            <a:r>
              <a:rPr b="1" lang="es-ES_tradnl" sz="2800" spc="-1" strike="noStrike" u="sng">
                <a:solidFill>
                  <a:srgbClr val="3366cc"/>
                </a:solidFill>
                <a:uFillTx/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920" y="1722600"/>
            <a:ext cx="906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ome examples of  stem-changing verb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want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Perde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lose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eferir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to prefer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se verbs are often followed by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FIN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Verbos de Cambio Radical E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IE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(stem-changing verbs E</a:t>
            </a:r>
            <a:r>
              <a:rPr b="0" i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I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640" y="5043600"/>
            <a:ext cx="43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Pref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9760" y="565308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los no quier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udia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9280" y="50436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pref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68080" y="57150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ey don’t wa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study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area #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y completa la hoja distrib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 a ½ in., soft cover 3-ring Binder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ou will keep your textbook copies and your workbook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 the Spanish Contract and Parent Contact sheet completed by Tu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Helen Zumaeta</cp:lastModifiedBy>
  <dcterms:modified xsi:type="dcterms:W3CDTF">2011-09-16T20:23:30Z</dcterms:modified>
  <cp:revision>11</cp:revision>
  <dc:subject/>
  <dc:title>Me llamo __________            Clase 7IM La fecha es el 14 de septiembre del 2011</dc:title>
</cp:coreProperties>
</file>